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747-200E-4169-AD0A-FAB7A345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826-C95C-4518-AEF9-C3796944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50537-37C5-44AA-8464-7094CEAF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53229-7158-46B6-878C-D56EB2C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F1FDB-D5F3-407C-B407-333C4F3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50255-143E-42F5-938C-CF0E054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5FE40-5B42-46AB-8258-B59F4D2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FBF44-EA96-49C7-A3B9-EA84D4E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E0628-389A-4DE7-B283-5E5BF34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2345E-D4C5-41CC-98C6-66E67EDE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C78C4-6848-4CAE-9BF4-F3206E22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4D02A-D018-4E2E-96F8-1078D3D1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294-57A0-48AF-B564-CD008186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B91CF-8C49-457E-96B2-1686A520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C6B02-7334-468A-9311-BF638D2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0A88E-0A98-4AA9-9877-292CEBF9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10F43-A19C-4992-AB46-828BE25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C5F6C-6412-4591-91BE-A08D119E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A8409-EA27-47CA-AC16-3FCF6A5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CB101-18BE-42DE-87FB-59D90A2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67059-68AB-4024-B735-49D73E0C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CD360-8C2F-409D-8CEA-296A8EB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E2144-924C-4832-BF67-0C3D49D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BF3-008D-4846-A6F1-CA0AF252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8B4AF-C226-4842-B51D-DCCC8220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EF9C-9312-49C1-9C67-B66024FB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A8A05-7480-4CEB-8E1A-F7483348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80D62-58C3-4E36-A5F9-EBDF67D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19A08-EF6D-4AD9-92B4-5584EDA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2CFE3-2A0D-46C1-8937-1ADE08D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B211-A363-4F06-AA6B-54C81AFC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C9B35-F93A-4D12-926E-3BD95C8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1E77D-4A3F-419E-8305-9E4DCE3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F5C1-AA52-4EE3-85EF-69C3474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72D-955E-4E80-890F-FB60E908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F02F1-5935-4DF2-AC5E-17C62FE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F90A-A87E-4FC8-BAC1-D41E382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E007B-E432-46EB-8BAB-1C419517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BD26B-2F76-4A17-BBFA-EF646364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DA14B-1DDA-486D-B98A-508CFD4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0175A-63BE-4C52-90E5-B2C01E3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7CCCD-2EDC-4E7A-9980-E1EB4343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2D255-54D5-42BC-98EE-06B76E48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BC23A-0AE8-448B-8E3A-79F0014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FC0A4-883A-4583-B1E1-DCCCA64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3F27-1A00-4C88-A405-AAA4835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EC311-8976-4337-B077-D8EE501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5D711-5208-449A-842F-1FBD754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033A4-0B71-4A96-BE81-9E647B00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9C415-D89B-4590-B77F-03FB3C02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7B545-6D03-4D03-A077-E22048EB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955-6AE0-4518-BC4E-9E24988F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77C-4047-437B-9ADB-D09ABAA1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B86-9B14-4197-84C0-2309FB5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4DC6-BAA0-4973-92D8-CDFCF3F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FB4F-FDD7-497E-B98D-F390F44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672-4C18-414F-99F7-9AC611E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6E35-3FAC-44A7-9934-268319A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F23-7E85-4F72-9610-354069C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E403-CD24-4379-AD2D-AB46A81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963-AB0B-4143-83E2-7B464F18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9375-D7B6-4DC9-8550-3AF16F1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939A-3117-4142-9E90-02C9D10B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FFED-14B0-4F3A-9ED7-EC33FDAA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560B-377C-4106-8F89-069E5903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353F-03FA-4F0D-8E60-F9633B6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AFBA-03B0-471F-BEFE-0C710D4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622-8AF5-4B00-A26A-7588C1FA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FFA1-66C5-4CE8-94B1-72EC46F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CBF2-390D-4C11-80B3-EA0A98E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7724-2E28-4750-8EBC-4A1274E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AC1B-B822-4CAA-9C4F-4F0C2B3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5609-2491-4191-B7D8-6369D2BE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2B60-F42D-419E-9BA7-30FC61F8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A13F-0A07-4B21-AC5C-C5B53F98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6BDE-13FF-4C96-B3F5-D224C2CC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B7E7-7439-4BEF-BCCD-F793B47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0F75E-E347-4062-8C49-3FE57B3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C1B-99F2-440C-9462-369C707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2064-DBB4-4CC2-A1B7-9425976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2F10-7573-470E-A44F-D13689A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19D6-2BE3-44F3-9BF2-C3F40DD5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3454-2B57-460B-9FB7-6350765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5BB0-5EBA-4967-9FE1-E56DE64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45DB-6602-4D94-935C-7CCE38B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1113-369C-4EE5-8F98-DF3E753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1EEC-7AEE-4464-AF39-B832E632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C82B-0624-4D68-9D44-2FBA1F1B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F01F-3143-42E0-AF8D-4E38F096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462-C568-43E0-8D53-4D62011D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CD60-153C-49FD-BEDE-AAEE3CF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CB25-D7EE-4405-B408-EE5EC0C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B2AC-F8AB-473C-BD08-02B22AC0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1F79-141D-4BE8-9838-E05B1129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6DD7-AD19-4E5B-ADD5-0B57EF4C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3441-B8F0-46F6-A3D3-FA2909A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97C7-7F19-44D3-BDAA-DEE359C6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3584-7E97-4634-A404-053889CC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6002-4588-4572-98B7-D58D7459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86CF-A88B-4537-ABA6-992B1ABE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1BE-656F-4A58-9EF6-92F5899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BC9F-9BBF-4FAA-9FE2-638E6B2E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699B-B328-4D97-B998-D53C1570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21FED-9CB3-485B-8681-23C14D2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7974-E9A7-48B7-9B20-C51ACC47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2FB8-8F00-4C0C-8998-7B073827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B598-2301-4639-81AF-45B70EA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093E-CD55-4144-A363-9FF8E10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4308C-40BC-459D-A227-2748EBC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3C3B-2C61-4F14-8593-DAF2D9F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C62B-FD1F-42DC-BE62-F8EABDB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27D-5A49-48B9-8D46-9B6A939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05EB-CCE1-499D-8E85-EF7F7878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8DC1-FB71-457F-8992-1BD7AD15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5EF5A-3CF0-4896-B2D6-6660B583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E4F9-6EE6-48C5-B477-95CA99F5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1867-8527-424F-819B-3A63533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8B82-7D1D-443F-974E-A01B7EB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73DF-A909-4B0F-9CD1-E8AF933C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F4739-0AFB-4BF4-BA55-19CF9B2B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FBF6-FEE4-4E90-BEB1-35925B24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4347-B4F5-42BC-9BEB-8F33AFC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967-8942-43EE-A773-B65656D5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8546-0D80-41C0-A743-23AC26E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41C1-76EE-43FB-B391-0218CAA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5C3C-1AC0-4FA5-815C-D3625DE7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D709-ECA3-4E75-99F4-9308FBFD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ECDDA-D91D-47BB-9A6E-B1FC6346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49BD5-AF90-4026-9C9A-95B69EA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514C-D22C-43BA-968F-6EDEE083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98C6D-5AFE-4668-A5B3-309AF911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AEFBB-C3B6-4273-A4CA-76CEE218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26662-DED5-403A-9A96-BD2ADE6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AAC-5FBF-46AE-AA11-793C39D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8345-931A-448C-B211-02CF5C4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DFC18-3F2B-4200-90EB-4116CFE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5C8D-DE11-487C-8287-E928724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CA62-33AA-495B-A776-F7A35E23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78E5-6370-470C-A633-52A01BE8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7567-5009-454A-B7DE-DF987F9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9E8B-FAD5-4F1E-B4FC-402188DA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2CF67-AC69-4DBE-8872-FBB87992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57C7A-03D8-4C2A-BCC0-EACD87BE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DAA74-A9EB-40B3-B91E-72E5DE1D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8FFD-E39C-4F0F-925E-6156ADEC9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657B-E446-4679-B322-CE5EB09DB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E94A-9631-4688-8F57-F46E441CA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171-FF27-4B91-88DE-CD1F07DDA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BEF-272A-40A9-83B4-1DC377F58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E11-9F41-455A-8CDB-9CE590A9F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113A-B5D4-4D87-8716-34240E473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0E16-CE99-4666-93A3-74555B129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FE16-D976-4470-8ED3-B37F54EA9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86B-7C62-46AB-B1E7-C85A98194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F597-9DC3-423F-A005-9B1F3D2F51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A7F-1E2B-4841-A2B4-FD3B0C55C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njuan.edu/files/filesystem/Marzano.pps" TargetMode="External"/><Relationship Id="rId2" Type="http://schemas.openxmlformats.org/officeDocument/2006/relationships/hyperlink" Target="http://www.uhseport.net/published/k/sh/kshaw/collection/1/25/upload.c-kshaw-1n25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ets.gc.k12.va.us/VSTE/2008/3effortandrecognition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RESENTED BY JANE COOK,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CONN LITERACY &amp; TECHNOLOGY COACH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FROM: </a:t>
            </a:r>
            <a:r>
              <a:rPr b="0" lang="en-US" sz="1500" spc="-1" strike="noStrike" u="sng">
                <a:solidFill>
                  <a:srgbClr val="00a3d6"/>
                </a:solidFill>
                <a:uFillTx/>
                <a:latin typeface="Times New Roman"/>
                <a:ea typeface="Times New Roman"/>
                <a:hlinkClick r:id="rId1"/>
              </a:rPr>
              <a:t>WWW.SANJUAN.EDU/FILES/FILESYSTEM/MARZANO.PPS </a:t>
            </a:r>
            <a:r>
              <a:rPr b="1" i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UHSEPORT.NET/PUBLISHED/K/SH/KSHAW/COLLECTION/1/25/UPLOAD.C-KSHAW-1N25.PPT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Reinforcing Effort and </a:t>
            </a:r>
            <a:br>
              <a:rPr sz="4300"/>
            </a:b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Providing Recognition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6" descr="MCj02813330000[1]"/>
          <p:cNvPicPr/>
          <p:nvPr/>
        </p:nvPicPr>
        <p:blipFill>
          <a:blip r:embed="rId3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21932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752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ople generally attribute success at any given task to one of four c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752480" y="2743200"/>
            <a:ext cx="5181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990720" y="4952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15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Tahoma"/>
              </a:rPr>
              <a:t>Three of these four beliefs ultimately inhibit achievement – (Covington 1983,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219320" y="20574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all students realize the importance       of believing in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819520" y="5334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dan,Midgley, &amp; Anderma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47920" y="34290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The implication is that teachers should explain and exemplify the “effort belief” to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295280" y="2819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Students who were taught about the relationship between effort and achievement increased their achievement more than students who were taught techniques for time management and comprehension of new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8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6576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 Overwalle &amp; De Metsenaere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1219320" y="5335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ahom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 can learn to change their beliefs to an emphasis on eff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114300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409760" y="2514600"/>
            <a:ext cx="6934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personal examples of times you have succeeded because you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examples of well-known athletes and others  who succeeded mainly because they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e students share personal examples of times they succeeded because they did not give up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523880" y="14479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Students need to be taught that effort can improve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33520" y="2209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stud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ort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533520" y="3352680"/>
            <a:ext cx="70102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Charting their effort and achievement will reveal patterns and help students see the connection between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06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09480" y="30492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inforcing Effort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990720" y="28195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s know what is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ir and credible evaluat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iculum is geared t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responsibility for work is emphas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ults are fixed, time 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ognition of accomplishment is ut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52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ORGANIZING CLASSROOMS FOR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600200" y="22860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064"/>
                </a:solidFill>
                <a:latin typeface="Papyrus"/>
              </a:rPr>
              <a:t>Providing recognition for attainment of specific goals not only enhances achievement, but it stimulate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19320" y="1828800"/>
            <a:ext cx="7315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s do not necessarily have a negative effect on intrinsic mo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 is most effective when it is contingent on the attainment of some standard of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tract symbolic recognition is more effective than tangible rew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600200" y="19810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ablish a rationale for 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1584360" y="338616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llow guidelines for effective and ineffective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600200" y="437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k effort to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600200" y="5029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 pause, prompt, and praise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contingent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es the particulars of the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spontaneity, variety and other signs of credibility that suggest clear attention to the student's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attainment of specified performance criteria (which can include effort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information to students about their competence or the value of their accomplishm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better appreciation of their own task-related behavior and thinking about problem solv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 result of participating in this workshop, teachers will be able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purpose of reinforcing effort and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examples of how teachers reinforce effort and provide recogni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resources that will support their work with students to reinforce effort and provide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randomly or unsystematical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restricted to global positive rea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a bland uniformity that suggests a conditioned response made with minimal att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mere participation, without consideration of performance processes or outcom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no information at all or gives students information about their stat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comparing themselves with others and thinking about comp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4920" y="17524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s the accomplishments of peers as the context for describing a student's present accomplishm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s given without regard to the effort expended or the meaning of the accomplishment (f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tudent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ttributes success to ability alone or to external factors such as luck or (easy) task difficulty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sters exogenous attributions (students believe that they expend effort on the task for external reasons - to please the teacher, win a competition or reward, etc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cuses students' attention on the teacher as an external authority figure who is manipulating them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udes into the ongoing process, distracting attention from task-relevant behavior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itle 1"/>
          <p:cNvSpPr/>
          <p:nvPr/>
        </p:nvSpPr>
        <p:spPr>
          <a:xfrm>
            <a:off x="53352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Georgia"/>
                <a:ea typeface="ＭＳ Ｐゴシック"/>
                <a:hlinkClick r:id="rId1"/>
              </a:rPr>
              <a:t>Examples of How Technology Can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ontent Placeholder 2"/>
          <p:cNvSpPr/>
          <p:nvPr/>
        </p:nvSpPr>
        <p:spPr>
          <a:xfrm>
            <a:off x="1600200" y="137160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ail:  Teachers can send positive notes to parent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er Webpages for posting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 processing software to create awards and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readingaward.jpg"/>
          <p:cNvPicPr/>
          <p:nvPr/>
        </p:nvPicPr>
        <p:blipFill>
          <a:blip r:embed="rId2"/>
          <a:stretch/>
        </p:blipFill>
        <p:spPr>
          <a:xfrm>
            <a:off x="228600" y="4572000"/>
            <a:ext cx="2603520" cy="19684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earubric.jpg"/>
          <p:cNvPicPr/>
          <p:nvPr/>
        </p:nvPicPr>
        <p:blipFill>
          <a:blip r:embed="rId3"/>
          <a:stretch/>
        </p:blipFill>
        <p:spPr>
          <a:xfrm>
            <a:off x="6781680" y="4343400"/>
            <a:ext cx="197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ified Jigsaw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 off by 10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in with the other people who have the same number as yo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a facilitator, scribe, reporter, timekeeper and gatekeep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cuss and research your assigned topic related to Reinforcing Effort or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are a presentation on your assigned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066680" y="501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OWBAL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609480" y="1905120"/>
            <a:ext cx="7925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064"/>
                </a:solidFill>
                <a:latin typeface="Tahoma"/>
              </a:rPr>
              <a:t>List the reasons why Reinforcing Effort and Providing Recognition are included in the nine categories of Instructional Strategies proven to increase student achie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ne reason per person.  When directed, crumple up your paper and toss it to another person who will add another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808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5b5c"/>
                </a:solidFill>
                <a:latin typeface="Tahoma"/>
              </a:rPr>
              <a:t>On the Snowball Activity handout/Exit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CKING FOR UNDERSTAN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666880" y="1219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3d6"/>
                </a:solidFill>
                <a:latin typeface="Tahoma"/>
              </a:rPr>
              <a:t>Base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384200" y="20574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 the four examples of providing recognition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your group, evaluate each example according to the Guidelines for Pra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if recognition is Effective or Ineff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te the specific criteria and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ise any that are in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219320" y="236232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060560" y="1295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1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Dana was unable to make any connections among the elements using a table of characteristics. Mr. Mulder suggests she focus on one characteristic and look for connections. When he returns later, Dana explains how she had figured out a way to group the elements according to boiling point. Mr. Mulder congratulates her on on finding a valid conn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5760" y="64296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143000" y="4308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2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Mr. Mulder circulates as students are working in small groups.  He pauses at Station 1 and comments, “Nice work on your calculations.”  At Station 2, he says, “Nice work on your graphs.” At Station 3, he says, “Nice work on your calculations</a:t>
            </a: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584360" y="6429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371600" y="1523880"/>
            <a:ext cx="68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3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“You really did a good job working through all of the steps and checking your answers for this problem.  I know you’ve had difficulties with multi-step calculations before and sometimes settled for getting any answer down on paper, even if it wasn’t correct. Your determination with the third task really show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447920" y="4648320"/>
            <a:ext cx="67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4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Good job. Jackson. Keep it up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Warm-u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one short sentence that tells about something that they did this morn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is sentence quickly; don’t worry about making it a long descriptive sent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Now think abou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11120" y="1523520"/>
            <a:ext cx="873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ere your feet went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s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though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evise your sentence.  Make it more than one sentence if necessary.  Tell where your feet were, what you saw, and what you were thinking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TE:  The Ba-Da-Bing handout explains this for you and gives you examples if you’d like to try it with your student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C:\Documents and Settings\jcook.EASTCONN\Local Settings\Temporary Internet Files\Content.IE5\5OP4WVKR\MCj04160140000[1].wmf"/>
          <p:cNvPicPr/>
          <p:nvPr/>
        </p:nvPicPr>
        <p:blipFill>
          <a:blip r:embed="rId1"/>
          <a:stretch/>
        </p:blipFill>
        <p:spPr>
          <a:xfrm>
            <a:off x="4724280" y="10666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jcook.EASTCONN\Local Settings\Temporary Internet Files\Content.IE5\5OP4WVKR\MCj04038930000[1].wmf"/>
          <p:cNvPicPr/>
          <p:nvPr/>
        </p:nvPicPr>
        <p:blipFill>
          <a:blip r:embed="rId2"/>
          <a:stretch/>
        </p:blipFill>
        <p:spPr>
          <a:xfrm>
            <a:off x="2819520" y="1981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C:\Documents and Settings\jcook.EASTCONN\Local Settings\Temporary Internet Files\Content.IE5\SLV3VZGK\MCj04298270000[1].wmf"/>
          <p:cNvPicPr/>
          <p:nvPr/>
        </p:nvPicPr>
        <p:blipFill>
          <a:blip r:embed="rId3"/>
          <a:stretch/>
        </p:blipFill>
        <p:spPr>
          <a:xfrm>
            <a:off x="6095880" y="19810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Think, Pair, Sh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a partner and Share your original and revised sentences with your partner.  Then discuss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do you think I chose the Ba-Da-Bing as a warm-up activity?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connections can you make between Ba-Da-Bing and Effective Teaching Strategie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Essential Nin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tegories Of Instructional Strateg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at Affect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81080"/>
          <a:ext cx="7391520" cy="4098960"/>
        </p:xfrm>
        <a:graphic>
          <a:graphicData uri="http://schemas.openxmlformats.org/drawingml/2006/table">
            <a:tbl>
              <a:tblPr/>
              <a:tblGrid>
                <a:gridCol w="5313600"/>
                <a:gridCol w="2077920"/>
              </a:tblGrid>
              <a:tr h="110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 similarities and differenc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focused on this strategy earlier in the 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and note t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forcing effort and providing recogni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are focusing on this to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inforcing Effort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38080" y="2133720"/>
            <a:ext cx="678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lieving in effort can serve as a powerful motivational tool that students can apply to any situation.  Providing recognition helps students see how  effort affects out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MCj02813330000[1]"/>
          <p:cNvPicPr/>
          <p:nvPr/>
        </p:nvPicPr>
        <p:blipFill>
          <a:blip r:embed="rId1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121932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lecting on Curr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liefs and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220760" y="1908000"/>
            <a:ext cx="73184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k, Pair, Share - Turn to your neighbor and discu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you reinforce students’ effor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the purpose for reinforcing effort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makes reinforcing effort effective or in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reinforcing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wish I knew…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encourage students so that they keep moving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help students put forth eff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as for increasing intrinsic moti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involve students in the feedback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to get the independent learners that we w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evaluative ways to recognize positive student efforts, accomplishments, an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01Z</dcterms:created>
  <dc:creator>jcook</dc:creator>
  <dc:description/>
  <dc:language>en-US</dc:language>
  <cp:lastModifiedBy>jcook</cp:lastModifiedBy>
  <dcterms:modified xsi:type="dcterms:W3CDTF">2009-05-06T15:52:18Z</dcterms:modified>
  <cp:revision>67</cp:revision>
  <dc:subject/>
  <dc:title>Reinforcing Effort and Providing  Recognition</dc:title>
</cp:coreProperties>
</file>